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311-CFF0-4B62-BF78-B13120CB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731-2BDA-466F-B1BF-1DC529E3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D1C-0B9D-4C0C-84AE-09462843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A0C-55BA-4BB7-9E92-15DF2560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490-559C-4570-98A1-3DCF12F9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488-8B00-449D-8273-8B621953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42E-58AF-4341-B626-D669F2E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1F1-10FE-4E63-9114-0AA4F0EB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A88-070B-40B6-973F-9F8A19BC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A37-245D-4612-80F9-3FC3C466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E9D-F26A-4AB2-BED1-C272D3D3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5FB-59A4-40CE-8189-9DF4ED5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FFE0-798D-47CB-B356-90F6ABFC4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ssia’s Tough 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yle Murphy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garet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evan 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lavs built civilization around modern day Kiev in 800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civilization was called Kievan 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Orthodox Christianity was accepted in 1000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often trading with Western Europe and Mediterran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gol Tr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gols interrupted Kievan Rus’ trading with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343400" y="7772400"/>
            <a:ext cx="7632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17524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4:09Z</dcterms:created>
  <dc:creator> </dc:creator>
  <dc:description/>
  <dc:language>en-US</dc:language>
  <cp:lastModifiedBy> </cp:lastModifiedBy>
  <dcterms:modified xsi:type="dcterms:W3CDTF">2010-12-14T19:17:47Z</dcterms:modified>
  <cp:revision>3</cp:revision>
  <dc:subject/>
  <dc:title>Russia’s Tough Past</dc:title>
</cp:coreProperties>
</file>